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6CF4-FE12-4A4A-9ECF-7EB8A5E3F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57F-34D9-432C-890C-80917B2E7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EC777-A71D-4AF0-A3FC-16320C66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05E6-74A0-4EC1-80BF-F239CE678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C6AD-8452-4720-9ADD-62EEA21D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8FBD-5D52-44C8-A1CF-B841C03E1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D1EB-9290-4EC1-B8FE-16A3DE08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16D5-4734-444F-9030-6091CA89C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0F43-F314-448F-90B2-1744D6433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A0571-77BA-4CF9-967C-236835F1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D746-72D8-42D0-A58D-6C430C3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E413-1048-4CCD-89C6-3725B65B9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B00FA-B93B-4714-ACE7-4D4C00D6A7A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image" Target="../media/image6.jpeg"/><Relationship Id="rId9" Type="http://schemas.openxmlformats.org/officeDocument/2006/relationships/image" Target="../media/image7.jpeg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760" y="1428480"/>
            <a:ext cx="1079640" cy="12603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itle 1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TATC ROBO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ubtitle 2"/>
          <p:cNvSpPr/>
          <p:nvPr/>
        </p:nvSpPr>
        <p:spPr>
          <a:xfrm>
            <a:off x="0" y="8571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600" spc="-1" strike="noStrike">
                <a:solidFill>
                  <a:srgbClr val="ffffff"/>
                </a:solidFill>
                <a:latin typeface="Calibri"/>
                <a:cs typeface="Cordia New"/>
              </a:rPr>
              <a:t>วิทยาลัยเทคนิคสัตหีบ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2206800" y="1428840"/>
            <a:ext cx="107928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407196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592920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7707240" y="1428840"/>
            <a:ext cx="1079640" cy="12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ffff"/>
                </a:solidFill>
                <a:latin typeface="Calibri"/>
              </a:rPr>
              <a:t>รูปขนาด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3.5x3 cm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500 k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itle 1"/>
          <p:cNvSpPr/>
          <p:nvPr/>
        </p:nvSpPr>
        <p:spPr>
          <a:xfrm>
            <a:off x="320760" y="3049560"/>
            <a:ext cx="4680000" cy="2879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Calibri"/>
              </a:rPr>
              <a:t>รูปหุ่นยนต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5214960" y="3071880"/>
            <a:ext cx="3600360" cy="2160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Calibri"/>
              </a:rPr>
              <a:t>รูป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1"/>
          <p:cNvSpPr/>
          <p:nvPr/>
        </p:nvSpPr>
        <p:spPr>
          <a:xfrm>
            <a:off x="14292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เสกสรร  ศรีจันทร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6"/>
          <p:cNvSpPr/>
          <p:nvPr/>
        </p:nvSpPr>
        <p:spPr>
          <a:xfrm>
            <a:off x="75009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นิรนาม  สังข์เทีย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17"/>
          <p:cNvSpPr/>
          <p:nvPr/>
        </p:nvSpPr>
        <p:spPr>
          <a:xfrm>
            <a:off x="5715000" y="2714760"/>
            <a:ext cx="1500120" cy="641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Arial"/>
              </a:rPr>
              <a:t>นายธัญลักษณ์  นามวงษ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18"/>
          <p:cNvSpPr/>
          <p:nvPr/>
        </p:nvSpPr>
        <p:spPr>
          <a:xfrm>
            <a:off x="3857760" y="2714760"/>
            <a:ext cx="1500120" cy="459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ปภาวิชญ์   ศรีบริสุทธิ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9"/>
          <p:cNvSpPr/>
          <p:nvPr/>
        </p:nvSpPr>
        <p:spPr>
          <a:xfrm>
            <a:off x="2000160" y="2714760"/>
            <a:ext cx="1500120" cy="276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cs typeface="Cordia New"/>
              </a:rPr>
              <a:t>นายอภินันท์  วัลลิสุ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52440" y="1441440"/>
          <a:ext cx="107964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2440" y="1441440"/>
                    <a:ext cx="107964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216400" y="3087720"/>
          <a:ext cx="3594240" cy="2158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216400" y="3087720"/>
                    <a:ext cx="3594240" cy="21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2195640" y="1413000"/>
            <a:ext cx="1114200" cy="1295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067280" y="1413000"/>
            <a:ext cx="1109520" cy="12952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686720" y="1413000"/>
            <a:ext cx="1114560" cy="1295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5911920" y="1413000"/>
            <a:ext cx="1111320" cy="1295280"/>
          </a:xfrm>
          <a:prstGeom prst="rect">
            <a:avLst/>
          </a:prstGeom>
          <a:ln w="0">
            <a:noFill/>
          </a:ln>
        </p:spPr>
      </p:pic>
      <p:pic>
        <p:nvPicPr>
          <p:cNvPr id="63" name="รูปภาพ 7" descr="Assem1.JPG"/>
          <p:cNvPicPr/>
          <p:nvPr/>
        </p:nvPicPr>
        <p:blipFill>
          <a:blip r:embed="rId10"/>
          <a:srcRect l="0" t="0" r="0" b="-80"/>
          <a:stretch/>
        </p:blipFill>
        <p:spPr>
          <a:xfrm>
            <a:off x="380880" y="3059280"/>
            <a:ext cx="460872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2:38:21Z</dcterms:created>
  <dc:creator>pymta</dc:creator>
  <dc:description/>
  <dc:language>en-US</dc:language>
  <cp:lastModifiedBy>seksan</cp:lastModifiedBy>
  <dcterms:modified xsi:type="dcterms:W3CDTF">2009-10-02T07:43:36Z</dcterms:modified>
  <cp:revision>38</cp:revision>
  <dc:subject/>
  <dc:title>Slide 1</dc:title>
</cp:coreProperties>
</file>